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6C6-9A15-48FA-9F45-3F063561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D1E-5AC0-4973-896E-055475FF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49E9-1779-4814-AE3B-724EDB0E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BFE-B8D7-41A5-9C05-994A7008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6EB-91E3-48C9-AEE9-5CD2B63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AA9-F81A-4EF4-97C1-A3770EA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CD7-BF0D-44F7-9F79-B82E64B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FB4-D952-44DA-996B-D35EB3E2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CF6-1D55-4EA7-A782-60AF007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BBC-D22B-4CF3-B8D8-D99F7ACE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37D-BF18-4B2C-BE5F-6666AE7B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3C4-6DCA-4F22-8C96-2B67E1A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D6C-6123-4853-A567-EF754EA16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hzipup01.wav"/><Relationship Id="rId29" Type="http://schemas.openxmlformats.org/officeDocument/2006/relationships/audio" Target="../media/zapbig0g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apbig0g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600" y="1849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36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3040" y="3201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50880" y="24526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12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60600" y="128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8920" y="3203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2360" y="3195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71880" y="18414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7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00360" y="327816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19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02040" y="24303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6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3400" y="24782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95880" y="1279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4200" y="3195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30520" y="3200400"/>
            <a:ext cx="100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37400" y="18273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1,21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66040" y="326376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04160" y="3179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7840" y="2430360"/>
            <a:ext cx="13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9720" y="2463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1720" y="1252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34440" y="3168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81960" y="318600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788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01080" y="124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2000" y="31892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3920" y="125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Subtrac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600" y="1849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95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3040" y="3201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50880" y="24526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912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60600" y="128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8920" y="3203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3195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1880" y="18414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50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0360" y="327816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319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2040" y="24303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43400" y="24782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95880" y="1279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4200" y="31957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3200400"/>
            <a:ext cx="5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37400" y="18273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5,2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66040" y="326376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04160" y="3179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97840" y="2430360"/>
            <a:ext cx="138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5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89720" y="2463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4440" y="31971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1960" y="318600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17880" y="127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1080" y="12463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82000" y="31892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920" y="1251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96960" y="2090520"/>
            <a:ext cx="36216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5720" y="1846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14720" y="2112480"/>
            <a:ext cx="36216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98960" y="195588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7960" y="209664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4640" y="19494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270920" y="208872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7600" y="1941480"/>
            <a:ext cx="53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56480" y="206640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5320" y="1312920"/>
            <a:ext cx="55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, 1 – 4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, 1 – 5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8-10T01:44:52Z</dcterms:modified>
  <cp:revision>47</cp:revision>
  <dc:subject/>
  <dc:title>Slide 1</dc:title>
</cp:coreProperties>
</file>